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A81-DFB4-4805-99A0-E06241DF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978-54B1-4C70-9B90-5B83DDB8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D67-D621-44BC-8D75-F0CD76DB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6B1-AC3F-4D17-8734-38B717C6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77F-1D45-4D9F-B646-9AF2A943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B2D-A7D2-4F6A-8B58-3C8AD07F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C51-819C-4158-9D15-0820552B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664-1155-4F3B-BC24-B44201E8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15F-0BAD-4EF8-9CB8-EFAEF5E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13E-884C-4980-BED3-DF134C9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2A9-5556-4DC0-B963-00293B93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DA4-0BE6-4FDC-986A-E82B8DCA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A341-803E-48FC-A33A-FA4A6DB4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:  MSA Review Day 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olume of the prism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tangular prism where l=5, w=3, h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ular prism where l=7, w=2, h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76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Students will square numbers and find their square roots in order to find missing dimensions of a right triang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square a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3x3  look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                        look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square numbers and find their square roots in order to find missing dimensions of a right tri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quaring the following numb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can square a number, lets talk about finding the square root of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Sign (Square root symbol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172200" y="2960640"/>
          <a:ext cx="9907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960640"/>
                    <a:ext cx="9907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61640" y="434340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dical sign means to find what number can be squared to make th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82720" y="528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76520" y="5257800"/>
                <a:ext cx="609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797920" y="524340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what number times itself equals 9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00200" y="300024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822240" y="38368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00200" y="3886200"/>
                <a:ext cx="7621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884160" y="467532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00200" y="472428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numbers have a perfect square root.  For these, you will need to round to the nearest whole number (or place value indica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63600" y="4219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752480" y="449568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787840" y="4503600"/>
            <a:ext cx="609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x 4 = 16 and 5 x 5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24 is between 16 and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e square root will be between 4 and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24 is closer to 25, we will round the square root t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alone or with a partner, complete Textbook pg. 579 problems 3-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145 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7:51:15Z</dcterms:created>
  <dc:creator>ccps</dc:creator>
  <dc:description/>
  <dc:language>en-US</dc:language>
  <cp:lastModifiedBy>deanne elizabeth mcgrath</cp:lastModifiedBy>
  <dcterms:modified xsi:type="dcterms:W3CDTF">2011-02-24T13:22:06Z</dcterms:modified>
  <cp:revision>6</cp:revision>
  <dc:subject/>
  <dc:title>Objective 11.1: To calculate the square roots of perfect squares.</dc:title>
</cp:coreProperties>
</file>